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172200" y="6400800"/>
            <a:ext cx="267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AC730-6844-4E0D-AD7B-ABE3EC4A5F23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3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CIS/2  Implementation Workshop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2.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3) Implementation T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6640" y="49860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I: April 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arly Binding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(data manipulation)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a data structures: typically C+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ingly SDAI compli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hema specific bind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venient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hema specific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ster (schema not loaded at run tim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Late Binding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(data manipulation)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a standard library functions: typically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equently SDAI compli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ic schema independent bind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lexible cod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ypically technology independ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ower (schema loaded at run tim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than one schema can be acces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ata Manipulation: Repositor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repository contains live STEP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ypically “some form of” DMB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EP “is defining” a standard API for manipulating such da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P Data Access Interface (SDAI) - Part 2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us language bindings e.g. C and C+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Data Manipulation: SDAI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yet fully standardi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fferent versions implemen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of SDAI is strongly recommen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data access/manipu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nge toolkit as market develo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essential for Basic transla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ed for open direct access to a PM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EP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ementation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ome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T-Tools: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ST Develop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PM: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ED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roSTEP: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CaseLi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DTech: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EC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urostep: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CIS Toolbo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Generic and Tailored version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33520" y="1981080"/>
            <a:ext cx="8153280" cy="31244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5800" y="2835360"/>
          <a:ext cx="7848720" cy="141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835360"/>
                    <a:ext cx="784872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52388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steptools.com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-Develope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t of software development tools which handle the complexities of the STEP standar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tegration with existing CAD tools and databases, cross-platform portabilit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mmitment to meeting new STEP standard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-Develope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2514600"/>
            <a:ext cx="8626680" cy="23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rovides SDAI C and ROSE C++ programming libraries that can be used to build software that works with STEP data in object-oriented databases, relational databases and traditional fil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-Develope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600200"/>
          <a:ext cx="7391160" cy="511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00200"/>
                    <a:ext cx="7391160" cy="51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expand on the role of STEP implementation techn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identify some candidate techn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, EXPRESS-G, EXPRESS-X Tool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EXPRESS and EXPRESS-X compiler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generate C++ classes, SDAI data-dictionaries, IDL descriptions, and HT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EXPRESS-X Mapping Engin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o map changes between information model insta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EXPRESS-G tool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onstructs diagrams from any EXPRESS information model and display/rearrange using a graphical edi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28600" y="1905120"/>
            <a:ext cx="8686800" cy="34290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09480" y="2590920"/>
            <a:ext cx="8229600" cy="11444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586240" y="4495680"/>
            <a:ext cx="405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pmtech.jotne.com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DM Prod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EDMdeveloperS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mprehensive package of tools for application developers, system integrators, data modell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EDMvisualExp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XPRESS-G based tool for creating and visualising data mod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DM Prod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EDMmodelConver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Uses EXPRESS-X to convert data from one EXPRESS schema to ano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EDMmodelCheck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Validates a data set against one or more EXPRESS schem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DMdeveloperSe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DM database designed for storing and manipulating data modelled in EXPRE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ully supports (and significantly expands) the scope of SDAI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unctions for database supervision and manag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nables multi-user ac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DMdeveloperSe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n be used as a linkable librar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 and JAVA late bin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++ early bin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DAI repository can be persistent or transi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ead and write Part 21 fil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DMdeveloperSe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RESS compiler to validate schema (results stored as dictionary mode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DAI fully compatible with the standard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RESS schema and data can be presented in HTML forma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DMdeveloperSe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981080" y="1600200"/>
          <a:ext cx="5105520" cy="478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600200"/>
                    <a:ext cx="5105520" cy="478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763120" cy="44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STEP caselib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52720" y="3581280"/>
            <a:ext cx="536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prostep.de/ps_e_welcome.ht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4343400"/>
            <a:ext cx="2286000" cy="220968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Summary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50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6324480" y="4876920"/>
            <a:ext cx="1987200" cy="1014120"/>
            <a:chOff x="6324480" y="4876920"/>
            <a:chExt cx="1987200" cy="1014120"/>
          </a:xfrm>
        </p:grpSpPr>
        <p:pic>
          <p:nvPicPr>
            <p:cNvPr id="56" name="" descr=""/>
            <p:cNvPicPr/>
            <p:nvPr/>
          </p:nvPicPr>
          <p:blipFill>
            <a:blip r:embed="rId3"/>
            <a:stretch/>
          </p:blipFill>
          <p:spPr>
            <a:xfrm>
              <a:off x="632448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632484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6629400" y="2362320"/>
            <a:ext cx="1400760" cy="1236600"/>
            <a:chOff x="6629400" y="2362320"/>
            <a:chExt cx="1400760" cy="1236600"/>
          </a:xfrm>
        </p:grpSpPr>
        <p:pic>
          <p:nvPicPr>
            <p:cNvPr id="59" name="" descr=""/>
            <p:cNvPicPr/>
            <p:nvPr/>
          </p:nvPicPr>
          <p:blipFill>
            <a:blip r:embed="rId4"/>
            <a:stretch/>
          </p:blipFill>
          <p:spPr>
            <a:xfrm>
              <a:off x="6629400" y="2362320"/>
              <a:ext cx="13716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663012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31520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00"/>
                </a:solidFill>
                <a:latin typeface="Arial"/>
              </a:rPr>
              <a:t>PDTec</a:t>
            </a:r>
            <a:endParaRPr b="1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CCO Toolki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mpil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PRESS, EXPRESS-C, and EXPRESS-X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erate efficient applications out of these specifications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XPRESS engin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ecute EXPRESS and EXPRESS-C specification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e functional and/or object-oriented programm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ata adapte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ad and write Part 21 fi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nstraint checke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ully verify data against EXPR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CCO Toolki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EXPRESS-X engine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Declarative mapping (latest EXPRESS-X specificatio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API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nect to your application with Java, Tcl, C++, C, Visual Basic, etc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utility librarie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High level functions significantly reduce the programming effor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CCO Toolki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GUI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ccess to all components of the Toolki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Includes editor, instance explorer, integrated instance editor, project manager.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debugger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races EXPRESS, EXPRESS-C, and EXPRESS-X based application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Validate the semantical correctness of EXPRESS integrity constraint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990720" y="2895480"/>
            <a:ext cx="7662600" cy="13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 Toolbox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vides an CIS interface which can easily be integrated into an applic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s data to be managed natively, with import or export as STEP files that conform to CIS/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++ class libraries generated from the CIS/2 schem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braries provide an API to the CIS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urostep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Pric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IS Toolbox v1.0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ffff"/>
                </a:solidFill>
                <a:latin typeface="Times New Roman"/>
              </a:rPr>
              <a:t>2500 Eu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oolboxes for other schemas by reque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WinSTEP (free!)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66680" y="1981080"/>
            <a:ext cx="7483680" cy="41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ersion 3.0 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March 1998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(based on NIST class librar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 collection of tools dealing with STEP (EXPRESS) running on top of Window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mplete integration within Windows 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iewing, editing, printing etc. of EXPRESS fil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yntax checking by fedex pars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++ code generation from EXPRESS by fedex_plu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HTML generation from EXPRESS by exp2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University of the Federal Armed Forces, Muni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ementation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3466800"/>
            <a:ext cx="2895480" cy="13737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implementation toolk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224720" y="2590920"/>
            <a:ext cx="3870360" cy="2057400"/>
            <a:chOff x="1224720" y="2590920"/>
            <a:chExt cx="3870360" cy="2057400"/>
          </a:xfrm>
        </p:grpSpPr>
        <p:sp>
          <p:nvSpPr>
            <p:cNvPr id="67" name=""/>
            <p:cNvSpPr/>
            <p:nvPr/>
          </p:nvSpPr>
          <p:spPr>
            <a:xfrm flipH="1" rot="10800000">
              <a:off x="1676520" y="3124080"/>
              <a:ext cx="1295280" cy="1524240"/>
            </a:xfrm>
            <a:custGeom>
              <a:avLst/>
              <a:gdLst>
                <a:gd name="textAreaLeft" fmla="*/ 360 w 1295280"/>
                <a:gd name="textAreaRight" fmla="*/ 1296000 w 1295280"/>
                <a:gd name="textAreaTop" fmla="*/ 0 h 1524240"/>
                <a:gd name="textAreaBottom" fmla="*/ 152460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24720" y="2590920"/>
              <a:ext cx="3870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PM defined in EXPRES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1295280" y="3962520"/>
            <a:ext cx="6629400" cy="2197080"/>
            <a:chOff x="1295280" y="3962520"/>
            <a:chExt cx="6629400" cy="2197080"/>
          </a:xfrm>
        </p:grpSpPr>
        <p:sp>
          <p:nvSpPr>
            <p:cNvPr id="70" name=""/>
            <p:cNvSpPr/>
            <p:nvPr/>
          </p:nvSpPr>
          <p:spPr>
            <a:xfrm rot="5400000">
              <a:off x="6057360" y="3848040"/>
              <a:ext cx="1295280" cy="152388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523880"/>
                <a:gd name="textAreaBottom" fmla="*/ 152424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295280" y="5334120"/>
              <a:ext cx="662940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ftware components (configured to LPM) to facilitate translator implement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ementation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5400000">
            <a:off x="3695760" y="2247840"/>
            <a:ext cx="1295280" cy="152424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524240"/>
              <a:gd name="textAreaBottom" fmla="*/ 152460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881000"/>
            <a:ext cx="2895480" cy="13737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implementation toolk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23880" y="3657600"/>
            <a:ext cx="6172200" cy="26668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6200000">
            <a:off x="1525680" y="4326120"/>
            <a:ext cx="151812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DA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4392720" y="3909960"/>
            <a:ext cx="2666880" cy="754200"/>
            <a:chOff x="4392720" y="3909960"/>
            <a:chExt cx="2666880" cy="754200"/>
          </a:xfrm>
        </p:grpSpPr>
        <p:sp>
          <p:nvSpPr>
            <p:cNvPr id="78" name=""/>
            <p:cNvSpPr/>
            <p:nvPr/>
          </p:nvSpPr>
          <p:spPr>
            <a:xfrm>
              <a:off x="4392720" y="3909960"/>
              <a:ext cx="2666880" cy="754200"/>
            </a:xfrm>
            <a:prstGeom prst="rightArrow">
              <a:avLst>
                <a:gd name="adj1" fmla="val 75000"/>
                <a:gd name="adj2" fmla="val 176818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401000" y="4057920"/>
              <a:ext cx="19216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File Writ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4392720" y="4846680"/>
            <a:ext cx="2802600" cy="754200"/>
            <a:chOff x="4392720" y="4846680"/>
            <a:chExt cx="2802600" cy="754200"/>
          </a:xfrm>
        </p:grpSpPr>
        <p:sp>
          <p:nvSpPr>
            <p:cNvPr id="81" name=""/>
            <p:cNvSpPr/>
            <p:nvPr/>
          </p:nvSpPr>
          <p:spPr>
            <a:xfrm flipH="1">
              <a:off x="4392720" y="4846680"/>
              <a:ext cx="2743200" cy="754200"/>
            </a:xfrm>
            <a:prstGeom prst="rightArrow">
              <a:avLst>
                <a:gd name="adj1" fmla="val 75000"/>
                <a:gd name="adj2" fmla="val 181878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096520" y="4994280"/>
              <a:ext cx="2098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File Read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2462400" y="3809880"/>
            <a:ext cx="2037600" cy="2350440"/>
            <a:chOff x="2462400" y="3809880"/>
            <a:chExt cx="2037600" cy="2350440"/>
          </a:xfrm>
        </p:grpSpPr>
        <p:grpSp>
          <p:nvGrpSpPr>
            <p:cNvPr id="84" name=""/>
            <p:cNvGrpSpPr/>
            <p:nvPr/>
          </p:nvGrpSpPr>
          <p:grpSpPr>
            <a:xfrm>
              <a:off x="2612880" y="3809880"/>
              <a:ext cx="1524240" cy="1726560"/>
              <a:chOff x="2612880" y="3809880"/>
              <a:chExt cx="1524240" cy="1726560"/>
            </a:xfrm>
          </p:grpSpPr>
          <p:sp>
            <p:nvSpPr>
              <p:cNvPr id="85" name=""/>
              <p:cNvSpPr/>
              <p:nvPr/>
            </p:nvSpPr>
            <p:spPr>
              <a:xfrm>
                <a:off x="2624040" y="3809880"/>
                <a:ext cx="1500840" cy="7124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624040" y="4824000"/>
                <a:ext cx="1500840" cy="7124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612880" y="4178160"/>
                <a:ext cx="0" cy="990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137120" y="4178160"/>
                <a:ext cx="0" cy="990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>
              <a:off x="2462400" y="5644800"/>
              <a:ext cx="2037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Repositor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Univers"/>
                <a:ea typeface="Times New Roman"/>
              </a:rPr>
              <a:t>EXPRESS </a:t>
            </a:r>
            <a:r>
              <a:rPr b="1" lang="en-US" sz="4400" spc="-1" strike="noStrike">
                <a:solidFill>
                  <a:srgbClr val="ffff00"/>
                </a:solidFill>
                <a:latin typeface="Univers"/>
              </a:rPr>
              <a:t>Modelling tool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di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anguage sensitive edi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rs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ull syntax valid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Visualis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ypically EXPRESS-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Combinations of the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Univers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Univers"/>
              </a:rPr>
              <a:t>STEP Implementation tool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5438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RESS Compil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 21 file pars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ta Manipu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ository and AP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ombinations of the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5029200"/>
            <a:ext cx="7620120" cy="106884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uch tools allow reliable translators to be implemented quickly and more cheaply 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Univers"/>
              </a:rPr>
              <a:t>EXPRESS Compile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bugging and documentation repor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sur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ful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upport for IS version of EXP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, INVERSE, and UNIQUE support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ates code for incorpora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transl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a datab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Univers"/>
              </a:rPr>
              <a:t>Part 21 File Parse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sure full support for the current STEP Part 21 file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iance with EXPRESS sche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iven by compil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de or a compiler library to read and to write conforming STEP fi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9T11:41:29Z</dcterms:created>
  <dc:creator>Alastair Watson</dc:creator>
  <dc:description/>
  <dc:language>en-US</dc:language>
  <cp:lastModifiedBy>Alastair Watson</cp:lastModifiedBy>
  <cp:lastPrinted>1999-06-19T15:36:00Z</cp:lastPrinted>
  <dcterms:modified xsi:type="dcterms:W3CDTF">2000-04-01T21:27:38Z</dcterms:modified>
  <cp:revision>23</cp:revision>
  <dc:subject/>
  <dc:title>CIS/2  Implementation Workshop</dc:title>
</cp:coreProperties>
</file>